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194-BAE5-47E5-A9C6-E871B6EF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759-38D9-4C37-8EB2-DD713F65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8F3-8A91-4D25-A1F0-2E2ECE9B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B8B-D5FD-405B-BF1D-0298A2E3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1F18-9420-4301-AD5D-6C990FB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318-9AEB-4E74-A435-674F6A7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FF59-D7C8-4A5C-A2F1-0DCE7E6F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0E68-E7C7-4FBE-B46F-B3062ED4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4A7-D642-4809-81AD-FC08EC05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F1E3-70BF-48D8-BFBF-1B2EC374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FCB2-4931-430A-841C-C974810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CF5-9C92-4815-9307-CCB85D6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4B5A-070E-42FA-A57A-D0C21F8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D192-8232-4766-8D7A-2FE30DF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3EF0-9060-49C1-A6DC-AA992F3F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5F1A-8E74-429E-802E-83D4CBF6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15C6-4CFC-4F8C-9683-91A4818B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A0A-9974-464F-A471-9CD890D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8A8-ACE3-46D2-9118-637F25BA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43D-A3BD-4E3A-BCB3-CB68362C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86E-0B54-4EDE-BEE8-6F27975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2A6-82A2-4D7B-B8E0-50DCBDFC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7D5-8F82-4A94-9271-C436B53A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385-C8CF-4B20-9CA7-E4EE943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0D6-A90A-4F62-BC61-71519771F0B5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F62D-5C01-4E01-95C9-653AA107C631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Support – Instructional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44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Using Help Menus to Support Others Use Technology Effectively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how to use help menus to help others become more independent using technology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share some great strategies you use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good tool to help others use technology effectivel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support others in becoming more independent using technology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r teachers and friends often get stuck when trying to figure things out in different application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r job is to help them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day we will discover a tool you can use to help them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ke a look at using the help menu to show others how to help themselv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atch me as I use the help menu to animate tex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ow it is your turn to try it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some interesting features someone might want to us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1814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ich one should we try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_____________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you and a partner are going to practice showing others how to use the “Help” menu so they can work independently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the 20 minutes are up, we will come back together and share what you’ve foun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1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Talk to your partner about interesting features you’ve used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Select one student to play the iSquad member and the other to play a teacher needing help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3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The teacher needing help will ask the iSquader for help and the iSquader will assist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4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The iSquader will help the teacher to use the requested feature. 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5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Select another feature and reverse roles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9212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6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If you have time continue with other features reversing roles after each feature is explained.</a:t>
            </a:r>
            <a:r>
              <a:rPr b="0" lang="en-US" sz="25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560" y="6019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12164"/>
                </a:solidFill>
                <a:latin typeface="Arial"/>
              </a:rPr>
              <a:t>(Note: remember not to touch anyone else’s computer. You can demonstrate or explain, but it is important that the person you are helping does this on their own.)</a:t>
            </a:r>
            <a:endParaRPr b="0" lang="en-US" sz="17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2-08T01:43:20Z</dcterms:modified>
  <cp:revision>3</cp:revision>
  <dc:subject/>
  <dc:title>Workshop Title</dc:title>
</cp:coreProperties>
</file>